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0F3EC-7547-4D2C-BE0F-6BE06BB1C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48CA-4624-40B3-AC0B-7279C220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36274-A4F8-414D-AD02-B33ED81EB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BB4B3-3122-4957-A25B-98FA895F3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8D5ED-F1A7-4405-88EE-4998D13C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930F-B36E-45E9-A53D-562FB31F9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3747-D257-4174-A7F4-CDD9AE4C0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4FF3-9AD1-450A-A90D-FE9803A32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C975-A546-4B4C-BFF4-E8A46C0E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AD9C-0768-44BC-A1CC-7423DF4F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E0A4-0E20-4E6A-8E4F-A736A9C5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297F-6689-430B-83DC-D267EABDB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FFF6-F164-4D1F-9110-1DA0A37BB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udentprogres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15627" r="53907" b="43752"/>
          <a:stretch/>
        </p:blipFill>
        <p:spPr>
          <a:xfrm>
            <a:off x="0" y="0"/>
            <a:ext cx="9144000" cy="6858000"/>
          </a:xfrm>
          <a:prstGeom prst="rect">
            <a:avLst/>
          </a:prstGeom>
          <a:ln w="0">
            <a:noFill/>
          </a:ln>
        </p:spPr>
      </p:pic>
      <p:sp>
        <p:nvSpPr>
          <p:cNvPr id="42" name="PlaceHolder 1"/>
          <p:cNvSpPr>
            <a:spLocks noGrp="1"/>
          </p:cNvSpPr>
          <p:nvPr>
            <p:ph type="subTitle"/>
          </p:nvPr>
        </p:nvSpPr>
        <p:spPr>
          <a:xfrm>
            <a:off x="1218960" y="1523520"/>
            <a:ext cx="7924680" cy="5334120"/>
          </a:xfrm>
          <a:prstGeom prst="rect">
            <a:avLst/>
          </a:prstGeom>
          <a:solidFill>
            <a:srgbClr val="ffcc00"/>
          </a:solidFill>
          <a:ln w="101520">
            <a:solidFill>
              <a:srgbClr val="000000"/>
            </a:solidFill>
            <a:miter/>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CBM</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ZE</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CAP</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COM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AP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63" name="" descr=""/>
          <p:cNvPicPr/>
          <p:nvPr/>
        </p:nvPicPr>
        <p:blipFill>
          <a:blip r:embed="rId1"/>
          <a:srcRect l="11721" t="20835" r="7811" b="7294"/>
          <a:stretch/>
        </p:blipFill>
        <p:spPr>
          <a:xfrm>
            <a:off x="609480" y="1295280"/>
            <a:ext cx="784872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CB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Oral Reading Fluency Assessment Pass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25 years of research* has shown that listening to a child read graded passages aloud for 1 minute and calculating the number of words read correct per minute provides a highly reliable and valid measure of general reading achievement, including comprehension, for most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sting practice, Reading Curriculum-Based Measurement (R-CBM) has met the standards for use in Reading First as determined by the Secretary of Education's Committee on Reading Assessment and the Office of Special Education Program's National Center for Student Progress Monitoring.</a:t>
            </a:r>
            <a:endParaRPr b="0" lang="en-US" sz="2400" spc="-1" strike="noStrike">
              <a:solidFill>
                <a:srgbClr val="000000"/>
              </a:solidFill>
              <a:latin typeface="Arial"/>
            </a:endParaRPr>
          </a:p>
        </p:txBody>
      </p:sp>
      <p:sp>
        <p:nvSpPr>
          <p:cNvPr id="45" name=""/>
          <p:cNvSpPr/>
          <p:nvPr/>
        </p:nvSpPr>
        <p:spPr>
          <a:xfrm>
            <a:off x="2362320" y="624852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arston(1982), Shinn (1981), Tindal and Germann (198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BM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47" name="" descr=""/>
          <p:cNvPicPr/>
          <p:nvPr/>
        </p:nvPicPr>
        <p:blipFill>
          <a:blip r:embed="rId1"/>
          <a:srcRect l="9376" t="20835" r="7811" b="8333"/>
          <a:stretch/>
        </p:blipFill>
        <p:spPr>
          <a:xfrm>
            <a:off x="457200" y="1295280"/>
            <a:ext cx="807732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ze-CB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eading Comprehension Assessment Passag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Reading Curriculum-Based Measurement (R-CBM) is the best overall measure of students' general reading proficiency, for some students, educators have felt the need for another measure, especially when comprehension problems are suspected. Maze reading (Maze-CBM) can be used in this instance as a corroborative or supplemental measure to provide a more complete picture of students' reading skill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ze is a multiple-choice close task that students complete while reading silently. The first sentence of a 150-400 word passage is left intact. Thereafter, every 7th word is replaced with three words inside parenthesis. One of the words is the exact one from the original passage. Science-based research has shown that this provides a reliable and valid measure of reading comprehension.</a:t>
            </a:r>
            <a:endParaRPr b="0" lang="en-US" sz="2300" spc="-1" strike="noStrike">
              <a:solidFill>
                <a:srgbClr val="000000"/>
              </a:solidFill>
              <a:latin typeface="Arial"/>
            </a:endParaRPr>
          </a:p>
        </p:txBody>
      </p:sp>
      <p:sp>
        <p:nvSpPr>
          <p:cNvPr id="50" name=""/>
          <p:cNvSpPr/>
          <p:nvPr/>
        </p:nvSpPr>
        <p:spPr>
          <a:xfrm>
            <a:off x="2362320" y="6248520"/>
            <a:ext cx="64767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studentprogress.org</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ZE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52" name="" descr=""/>
          <p:cNvPicPr/>
          <p:nvPr/>
        </p:nvPicPr>
        <p:blipFill>
          <a:blip r:embed="rId1"/>
          <a:srcRect l="20315" t="36462" r="16405" b="10420"/>
          <a:stretch/>
        </p:blipFill>
        <p:spPr>
          <a:xfrm>
            <a:off x="533520" y="1379520"/>
            <a:ext cx="8001000" cy="503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COMP</a:t>
            </a:r>
            <a:endParaRPr b="0" lang="en-US" sz="4400" spc="-1" strike="noStrike">
              <a:solidFill>
                <a:srgbClr val="000000"/>
              </a:solidFill>
              <a:latin typeface="Arial"/>
            </a:endParaRPr>
          </a:p>
        </p:txBody>
      </p:sp>
      <p:sp>
        <p:nvSpPr>
          <p:cNvPr id="54"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MP is a revised assessment of Math Computation (M-COM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COMP is consistent with the new AIMSweb M-CAP (Math Concepts and Applications) in terms of format, number of benchmark and progress monitoring probes per grade, scoring rule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MP offers a wealth of new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ntent to increase overall rigor and align more closely with NCTM standard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tudent-friendly form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benchmark probes and 30 progress monitoring probes, with fewer, but more targeted items than previous vers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and streamlined scoring rules and new report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OMP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56" name="" descr=""/>
          <p:cNvPicPr/>
          <p:nvPr/>
        </p:nvPicPr>
        <p:blipFill>
          <a:blip r:embed="rId1"/>
          <a:srcRect l="5467" t="21878" r="3906" b="7294"/>
          <a:stretch/>
        </p:blipFill>
        <p:spPr>
          <a:xfrm>
            <a:off x="130320" y="1292400"/>
            <a:ext cx="883908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CAP</a:t>
            </a:r>
            <a:endParaRPr b="0" lang="en-US" sz="4400" spc="-1" strike="noStrike">
              <a:solidFill>
                <a:srgbClr val="000000"/>
              </a:solidFill>
              <a:latin typeface="Arial"/>
            </a:endParaRPr>
          </a:p>
        </p:txBody>
      </p:sp>
      <p:sp>
        <p:nvSpPr>
          <p:cNvPr id="5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P measures students' ability to apply mathematical reasoning, analytical skills, and computational skills - complementing the M-CBM assessment, which evaluates calculation and computational skills.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dministered, taking 8 minutes for grades 2-6; 10 minutes for grades 7-8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National Council of Teachers of Mathematics (NCTM) Principles and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33 probes per grade: three for benchmarking all students, and an additional 30 for monitoring the effectiveness of intervention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s a broad set of math domains, including number sense, measurement, operations, patterns and relationships,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easy, innovative scoring that enhances the sensitivity of each probe, maximizes the technical adequacy and scientific properties that support the scoring process, minimizes the impact of “skipping,” and simplifies the scoring process for teachers </a:t>
            </a:r>
            <a:endParaRPr b="0" lang="en-US" sz="20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AP</a:t>
            </a:r>
            <a:endParaRPr b="0" lang="en-US" sz="4400" spc="-1" strike="noStrike">
              <a:solidFill>
                <a:srgbClr val="000000"/>
              </a:solidFill>
              <a:latin typeface="Arial"/>
            </a:endParaRPr>
          </a:p>
        </p:txBody>
      </p:sp>
      <p:pic>
        <p:nvPicPr>
          <p:cNvPr id="60" name="" descr=""/>
          <p:cNvPicPr/>
          <p:nvPr/>
        </p:nvPicPr>
        <p:blipFill>
          <a:blip r:embed="rId1"/>
          <a:stretch/>
        </p:blipFill>
        <p:spPr>
          <a:xfrm>
            <a:off x="533520" y="1963800"/>
            <a:ext cx="8229600" cy="4246560"/>
          </a:xfrm>
          <a:prstGeom prst="rect">
            <a:avLst/>
          </a:prstGeom>
          <a:ln w="0">
            <a:noFill/>
          </a:ln>
        </p:spPr>
      </p:pic>
      <p:sp>
        <p:nvSpPr>
          <p:cNvPr id="61" name=""/>
          <p:cNvSpPr/>
          <p:nvPr/>
        </p:nvSpPr>
        <p:spPr>
          <a:xfrm>
            <a:off x="533520" y="14479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mains Assessed by G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4:53:05Z</dcterms:created>
  <dc:creator>setup</dc:creator>
  <dc:description/>
  <dc:language>en-US</dc:language>
  <cp:lastModifiedBy>setup</cp:lastModifiedBy>
  <dcterms:modified xsi:type="dcterms:W3CDTF">2011-01-13T19:51:12Z</dcterms:modified>
  <cp:revision>10</cp:revision>
  <dc:subject/>
  <dc:title>Slide 1</dc:title>
</cp:coreProperties>
</file>